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8CC6-6F27-42B0-8E09-3C3717D57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B417-9AAD-48C3-9A0C-4C0245CAC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FD7-0DA1-4AEB-A474-1EF0306C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AFD-6A00-4F9D-B270-A1F32625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DEC-6B7F-4F96-B0AD-19C33290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EFB-05FB-48B5-836A-9840398C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769-016E-4B1F-98CA-20D76FB2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344-72D9-479C-AE6F-D2B6C2D4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527-F729-41B6-82DC-3F9E7AAA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8F5-41AB-47A7-B994-01CBA756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FD2-D51C-4C07-8E59-7897143F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D6F-6DF7-4A5F-ABA8-8C6FEA13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FB3-9F9A-467D-A036-30D86FFB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21B6-1269-4FFC-95FF-023AF472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F18E-AED6-4C60-ACEB-DA6B45448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04920" y="228600"/>
            <a:ext cx="8534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ile - Uncle C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're 1.______ then the 2.______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m lucky just to 3.______ in your 4._____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ler then the 5.____ ____ of my pillow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's right, completely 6.______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hing can 7._______ to where you 8._____ 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s me know that it's ok , yeah it's o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moments when my 9. _____ _____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to 10._____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refrain) You make me 11._____ like the 12.____, fall out of bed, 13.____ like a 14.____, 15.____ in my head, 16._____ like a 17.______, crazy on a Sunday night, you make me 18.______ like a 19.______, forget how to 20._______, 21.______ like 22.______, 23._____ like a 24.____. just the thought of you can drive me 25._____...Oh, you make me smile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when you're 26._____ somehow you come alo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like a flower 27.______ through the sidewalk 28._____ and just like tha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29.______  _______ the rain and just like that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refr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't know how I lived without you 'cuz every time that I get around yo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see the 30. _____ __ ____ inside your ey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make me smile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(refr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124080" cy="21477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219320" y="457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00400" y="457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09680" y="762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038480" y="762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2286000" y="990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lip 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3124080" y="1295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a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828800" y="1600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343400" y="1523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6705720" y="2452680"/>
            <a:ext cx="24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heartcookingclubs.blogspot.c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3581280" y="2057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o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1295280" y="2362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97180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480060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73152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457200" y="3200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1447920" y="3200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z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3657600" y="3200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5410080" y="3200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281952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457200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31520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ea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609480" y="3733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2133720" y="3733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3276720" y="3733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u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4876920" y="3733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1523880" y="4038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2514600" y="4572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2514600" y="4876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5943600" y="4876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1219320" y="5105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eal   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9"/>
          <p:cNvSpPr/>
          <p:nvPr/>
        </p:nvSpPr>
        <p:spPr>
          <a:xfrm>
            <a:off x="1676520" y="5958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st  of 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01:58:09Z</dcterms:created>
  <dc:creator>Steve Carpenter</dc:creator>
  <dc:description/>
  <dc:language>en-US</dc:language>
  <cp:lastModifiedBy>Dan Olsen</cp:lastModifiedBy>
  <dcterms:modified xsi:type="dcterms:W3CDTF">2011-01-17T17:11:21Z</dcterms:modified>
  <cp:revision>29</cp:revision>
  <dc:subject/>
  <dc:title>Slide 1</dc:title>
</cp:coreProperties>
</file>